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1A60-9043-41FE-B355-40985A01C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2F1E-B1A2-468F-89D0-15393C65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9978-92F4-4C1C-A4F6-54BBA99DE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BFD9-BB3F-4A29-9D49-749F8BEAF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1917-F987-464C-9C87-51659C58E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3491-FE4B-48FC-AD32-BDA1F8AE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E44C-0EB8-45A1-90EB-0D0A910A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3042-3CDF-498D-A345-D0FC200C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3D641-2947-41A7-ABF4-EF92E771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5E69-199C-4853-A5D9-C7CA273B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0ED0-AFAB-472C-A2A4-58A6E01A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69EF-1E67-4BA9-A897-454524F8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F17F-F2E8-48A5-80F8-CDA52E95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4E03-A1FC-4C35-8375-A47DDD08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BE91-6C85-4179-A2C1-9F05A776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0A44-E17C-4929-AA2F-04C855959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FC0D-A874-4ECA-978D-25C63C9C5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64FE-D932-44A5-9AA3-3437BA5B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6B7F-CCA2-44E3-A9C2-4C8AEAE4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B1F1-85B6-41E5-BB07-0D79B7B9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5CFA-BF32-4724-B4E0-659CCB4F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5203-99A6-4061-A083-90F57B9B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8913-9CAE-40ED-9523-A39C2C5A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19AE-F169-494C-818D-2CB306B1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f237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3e7"/>
                    </a:gs>
                    <a:gs pos="100000">
                      <a:srgbClr val="9f237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03e7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03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9284-FD35-47FA-A219-40525CEDDC4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f237f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9f237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03e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03e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9D04-70BC-4C01-995C-C6482490673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600" y="361800"/>
            <a:ext cx="861048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Prepared by:-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7e1"/>
                </a:solidFill>
                <a:latin typeface="Arial Black"/>
              </a:rPr>
              <a:t>Sanjay Diwan</a:t>
            </a: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Social Study Mast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Distt. Sangrur (Pb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2133720" y="2971800"/>
            <a:ext cx="5105160" cy="3886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53bcb"/>
                </a:solidFill>
                <a:latin typeface="Arial Black"/>
              </a:rPr>
              <a:t>Past Indefinite Tens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53bcb"/>
                </a:solidFill>
                <a:uFillTx/>
                <a:latin typeface="Arial Black"/>
              </a:rPr>
              <a:t>The Use</a:t>
            </a: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 : Expression of completion of action in the recent past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53bcb"/>
                </a:solidFill>
                <a:uFillTx/>
                <a:latin typeface="Arial Black"/>
              </a:rPr>
              <a:t>The Structure</a:t>
            </a: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 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S + V2 (HV did + V1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53bcb"/>
                </a:solidFill>
                <a:uFillTx/>
                <a:latin typeface="Arial Black"/>
              </a:rPr>
              <a:t>Affirmative</a:t>
            </a:r>
            <a:r>
              <a:rPr b="0" lang="en-US" sz="2400" spc="-1" strike="noStrike">
                <a:solidFill>
                  <a:srgbClr val="753bcb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My friend went to London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Dogs ran fast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99"/>
                </a:solidFill>
                <a:uFillTx/>
                <a:latin typeface="Arial Black"/>
              </a:rPr>
              <a:t>N</a:t>
            </a: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 : Miss did not lose any number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99"/>
                </a:solidFill>
                <a:uFillTx/>
                <a:latin typeface="Arial Black"/>
              </a:rPr>
              <a:t>?</a:t>
            </a: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 : Did the professor of English pronounce the words correctly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99"/>
                </a:solidFill>
                <a:uFillTx/>
                <a:latin typeface="Arial Black"/>
              </a:rPr>
              <a:t>? N</a:t>
            </a: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 : Did you not call me names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4000">
    <p:wheel spokes="8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53bcb"/>
                </a:solidFill>
                <a:latin typeface="Arial Black"/>
              </a:rPr>
              <a:t>Past Continuous Tens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53bcb"/>
                </a:solidFill>
                <a:uFillTx/>
                <a:latin typeface="Arial Black"/>
              </a:rPr>
              <a:t>The Use</a:t>
            </a: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 : Expression of continuity of action in the past at the time speaking/writing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53bcb"/>
                </a:solidFill>
                <a:uFillTx/>
                <a:latin typeface="Arial Black"/>
              </a:rPr>
              <a:t>The Structure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 :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S + was/were + V1 + ing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53bcb"/>
                </a:solidFill>
                <a:uFillTx/>
                <a:latin typeface="Arial Black"/>
              </a:rPr>
              <a:t>Affirmative</a:t>
            </a:r>
            <a:r>
              <a:rPr b="0" lang="en-US" sz="2000" spc="-1" strike="noStrike">
                <a:solidFill>
                  <a:srgbClr val="753bcb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: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Miss Amanjot was flying a kite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Engineers were switching on the  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motor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</a:rPr>
              <a:t>N</a:t>
            </a: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 : Students were not striking on Monday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</a:rPr>
              <a:t>? </a:t>
            </a: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: Was the musician singing?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</a:rPr>
              <a:t>? N </a:t>
            </a: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 : Were the doctors not saving the AIDS patient?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4000">
    <p:wheel spokes="8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1920" y="301320"/>
            <a:ext cx="716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53bcb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753bcb"/>
                </a:solidFill>
                <a:latin typeface="Arial Black"/>
              </a:rPr>
              <a:t>Past Perfect Tens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53bcb"/>
                </a:solidFill>
                <a:uFillTx/>
                <a:latin typeface="Arial Black"/>
              </a:rPr>
              <a:t>The Use</a:t>
            </a: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 : Expression of completion of action in the late past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53bcb"/>
                </a:solidFill>
                <a:uFillTx/>
                <a:latin typeface="Arial Black"/>
              </a:rPr>
              <a:t>The Structure</a:t>
            </a: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 :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S + had + V3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53bcb"/>
                </a:solidFill>
                <a:uFillTx/>
                <a:latin typeface="Arial Black"/>
              </a:rPr>
              <a:t>Affirmative</a:t>
            </a: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 :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Miss Neelkamal has gone to Jagraon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Miss Cathy had played several romantic roles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</a:rPr>
              <a:t>N</a:t>
            </a: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 : The nurse had not felt the patient’s pulse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</a:rPr>
              <a:t>?</a:t>
            </a: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 :  Had interpreters not help the immigrants?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</a:rPr>
              <a:t>? N</a:t>
            </a: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 : Had the English speakers not arranged a quiz zone ?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4000">
    <p:wheel spokes="8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53bcb"/>
                </a:solidFill>
                <a:latin typeface="Arial Black"/>
              </a:rPr>
              <a:t>Past Perfect Continuous  </a:t>
            </a:r>
            <a:br>
              <a:rPr sz="4400"/>
            </a:br>
            <a:r>
              <a:rPr b="0" lang="en-US" sz="4400" spc="-1" strike="noStrike">
                <a:solidFill>
                  <a:srgbClr val="753bcb"/>
                </a:solidFill>
                <a:latin typeface="Arial Black"/>
              </a:rPr>
              <a:t>  Tens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53bcb"/>
                </a:solidFill>
                <a:uFillTx/>
                <a:latin typeface="Arial Black"/>
              </a:rPr>
              <a:t>The Use</a:t>
            </a: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 : Expression of completion and continuity of action in the past and at the time of speaking/writing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53bcb"/>
                </a:solidFill>
                <a:uFillTx/>
                <a:latin typeface="Arial Black"/>
              </a:rPr>
              <a:t>The Structure</a:t>
            </a: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 :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S + had been + V1 + ing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53bcb"/>
                </a:solidFill>
                <a:uFillTx/>
                <a:latin typeface="Arial Black"/>
              </a:rPr>
              <a:t>Affirmative</a:t>
            </a: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 :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Miss Cathy had been singing since morning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Miss Vainglory had been teaching pronunciation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</a:rPr>
              <a:t>N</a:t>
            </a: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 : Doctors had not been striking for a week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</a:rPr>
              <a:t>?</a:t>
            </a: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 : Had seagulls been bathing in the cold water?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</a:rPr>
              <a:t>?N</a:t>
            </a: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 : Had Miss Neelkamal not been diving in the sea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4000">
    <p:wheel spokes="8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53bcb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753bcb"/>
                </a:solidFill>
                <a:latin typeface="Arial Black"/>
              </a:rPr>
              <a:t>Future Indefinite Tens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53bcb"/>
                </a:solidFill>
                <a:uFillTx/>
                <a:latin typeface="Arial Black"/>
              </a:rPr>
              <a:t>The Use</a:t>
            </a: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 : Expression of probability of action in future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53bcb"/>
                </a:solidFill>
                <a:uFillTx/>
                <a:latin typeface="Arial Black"/>
              </a:rPr>
              <a:t>The Structure</a:t>
            </a: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 :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S + will/shall + V1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53bcb"/>
                </a:solidFill>
                <a:uFillTx/>
                <a:latin typeface="Arial Black"/>
              </a:rPr>
              <a:t>Affirmative</a:t>
            </a: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 :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Miss Cathy will serve as an air- hostess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We shall grow plants of love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</a:rPr>
              <a:t>N</a:t>
            </a: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 : Girls will not learn French music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</a:rPr>
              <a:t>? </a:t>
            </a: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: Will the women organize awareness generation program?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</a:rPr>
              <a:t>?N</a:t>
            </a: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 : Will you not contest for modern English grammar 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4000">
    <p:wheel spokes="8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-360" y="301320"/>
            <a:ext cx="8915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753bcb"/>
                </a:solidFill>
                <a:latin typeface="Arial Black"/>
              </a:rPr>
              <a:t>Future Continuous Tens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53bcb"/>
                </a:solidFill>
                <a:uFillTx/>
                <a:latin typeface="Arial Black"/>
              </a:rPr>
              <a:t>The Use</a:t>
            </a: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 : Expression of probable continuity of action in future at the time of speaking/writing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53bcb"/>
                </a:solidFill>
                <a:uFillTx/>
                <a:latin typeface="Arial Black"/>
              </a:rPr>
              <a:t>The Structure</a:t>
            </a: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 :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S + will/shall + be + V1 + ing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53bcb"/>
                </a:solidFill>
                <a:uFillTx/>
                <a:latin typeface="Arial Black"/>
              </a:rPr>
              <a:t>Affirmative</a:t>
            </a:r>
            <a:r>
              <a:rPr b="0" lang="en-US" sz="2000" spc="-1" strike="noStrike">
                <a:solidFill>
                  <a:srgbClr val="753bcb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: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Terrorists will be attacking the city of New York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I shall be flying to London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</a:rPr>
              <a:t>N</a:t>
            </a: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 : Passengers will not be touring Cambridge University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</a:rPr>
              <a:t>?</a:t>
            </a: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 : Will students of English University be coming yearly?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</a:rPr>
              <a:t>? N</a:t>
            </a: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 : Will electors not be electing Miss Susan?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4000">
    <p:wheel spokes="8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10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10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10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10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10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10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10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1000" fill="hold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1000" fill="hold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301320"/>
            <a:ext cx="8001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53bcb"/>
                </a:solidFill>
                <a:latin typeface="Arial Black"/>
              </a:rPr>
              <a:t>Future Perfect Tens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 u="sng">
                <a:solidFill>
                  <a:srgbClr val="753bcb"/>
                </a:solidFill>
                <a:uFillTx/>
                <a:latin typeface="Arial Black"/>
              </a:rPr>
              <a:t>The Use</a:t>
            </a: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 : Expression of probability of completion of action in future at the time of speaking/writing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53bcb"/>
                </a:solidFill>
                <a:uFillTx/>
                <a:latin typeface="Arial Black"/>
              </a:rPr>
              <a:t>The Structure</a:t>
            </a: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 :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will/shall + have + V3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53bcb"/>
                </a:solidFill>
                <a:uFillTx/>
                <a:latin typeface="Arial Black"/>
              </a:rPr>
              <a:t>Affirmative</a:t>
            </a:r>
            <a:r>
              <a:rPr b="0" lang="en-US" sz="2000" spc="-1" strike="noStrike">
                <a:solidFill>
                  <a:srgbClr val="753bcb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: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Miss Neelkamal will have taken the IELTS English test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The polyglot will have translated it into English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</a:rPr>
              <a:t>N</a:t>
            </a: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 : I shall not have reached Delhi by Monday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</a:rPr>
              <a:t>?</a:t>
            </a: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 : Will Miss Cathy have conducted the English class?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</a:rPr>
              <a:t>? N</a:t>
            </a: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 : Will Miss Dolphin not have written a love letter?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4000">
    <p:wheel spokes="8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28600" y="301320"/>
            <a:ext cx="82296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53bcb"/>
                </a:solidFill>
                <a:latin typeface="Arial Black"/>
              </a:rPr>
              <a:t>Future Perfect Continuou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 </a:t>
            </a:r>
            <a:r>
              <a:rPr b="0" lang="en-US" sz="2000" spc="-1" strike="noStrike" u="sng">
                <a:solidFill>
                  <a:srgbClr val="753bcb"/>
                </a:solidFill>
                <a:uFillTx/>
                <a:latin typeface="Arial Black"/>
              </a:rPr>
              <a:t>The Use </a:t>
            </a: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: Expression of probability of completion and continuity of action in future at the time of speaking/writing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53bcb"/>
                </a:solidFill>
                <a:uFillTx/>
                <a:latin typeface="Arial Black"/>
              </a:rPr>
              <a:t>The structure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: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S + will/shall + have been + V1 + ing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53bcb"/>
                </a:solidFill>
                <a:uFillTx/>
                <a:latin typeface="Arial Black"/>
              </a:rPr>
              <a:t>Affirmative </a:t>
            </a: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: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Gold will have been listening to the english news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We shall have been touring the Mount Everest since Monday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99"/>
                </a:solidFill>
                <a:uFillTx/>
                <a:latin typeface="Arial Black"/>
              </a:rPr>
              <a:t>N</a:t>
            </a:r>
            <a:r>
              <a:rPr b="1" lang="en-US" sz="2000" spc="-1" strike="noStrike">
                <a:solidFill>
                  <a:srgbClr val="ff3399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: Miss Cathy will not have been taking the pilot’s test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</a:rPr>
              <a:t>?</a:t>
            </a: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 : Will the lovers have been celebrating Valentine’s Day?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</a:rPr>
              <a:t>?N</a:t>
            </a: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 : Will Miss Dolphin not have been driving into the English channel?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4000">
    <p:wheel spokes="8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895480" y="1066680"/>
            <a:ext cx="2819520" cy="1295640"/>
          </a:xfrm>
          <a:prstGeom prst="ellipse">
            <a:avLst/>
          </a:prstGeom>
          <a:gradFill rotWithShape="0">
            <a:gsLst>
              <a:gs pos="0">
                <a:srgbClr val="ff03e7"/>
              </a:gs>
              <a:gs pos="100000">
                <a:srgbClr val="7e003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" y="3733920"/>
            <a:ext cx="2057400" cy="990360"/>
          </a:xfrm>
          <a:prstGeom prst="ellipse">
            <a:avLst/>
          </a:prstGeom>
          <a:gradFill rotWithShape="0">
            <a:gsLst>
              <a:gs pos="0">
                <a:srgbClr val="ff3399"/>
              </a:gs>
              <a:gs pos="100000">
                <a:srgbClr val="92004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76720" y="3733920"/>
            <a:ext cx="2057400" cy="990360"/>
          </a:xfrm>
          <a:prstGeom prst="ellipse">
            <a:avLst/>
          </a:prstGeom>
          <a:gradFill rotWithShape="0">
            <a:gsLst>
              <a:gs pos="0">
                <a:srgbClr val="ff3399"/>
              </a:gs>
              <a:gs pos="100000">
                <a:srgbClr val="7e003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477120" y="3733920"/>
            <a:ext cx="2057400" cy="990360"/>
          </a:xfrm>
          <a:prstGeom prst="ellipse">
            <a:avLst/>
          </a:prstGeom>
          <a:gradFill rotWithShape="0">
            <a:gsLst>
              <a:gs pos="0">
                <a:srgbClr val="ff3399"/>
              </a:gs>
              <a:gs pos="100000">
                <a:srgbClr val="92004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581280" y="3809880"/>
            <a:ext cx="152424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ast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ense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       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934320" y="3809880"/>
            <a:ext cx="14475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uture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ense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98560" y="2635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3809880"/>
            <a:ext cx="1523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esent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ense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43000" y="2895480"/>
            <a:ext cx="6324480" cy="0"/>
          </a:xfrm>
          <a:prstGeom prst="line">
            <a:avLst/>
          </a:prstGeom>
          <a:ln w="9360">
            <a:solidFill>
              <a:srgbClr val="7e0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143000" y="2895480"/>
            <a:ext cx="0" cy="838440"/>
          </a:xfrm>
          <a:prstGeom prst="line">
            <a:avLst/>
          </a:prstGeom>
          <a:ln w="9360">
            <a:solidFill>
              <a:srgbClr val="7e003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267080" y="2362320"/>
            <a:ext cx="0" cy="1371600"/>
          </a:xfrm>
          <a:prstGeom prst="line">
            <a:avLst/>
          </a:prstGeom>
          <a:ln w="9360">
            <a:solidFill>
              <a:srgbClr val="7e003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467480" y="2895480"/>
            <a:ext cx="0" cy="838440"/>
          </a:xfrm>
          <a:prstGeom prst="line">
            <a:avLst/>
          </a:prstGeom>
          <a:ln w="9360">
            <a:solidFill>
              <a:srgbClr val="7e003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200400" y="137160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ENSE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 advTm="4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7e1"/>
                </a:solidFill>
                <a:latin typeface="Arial Black"/>
              </a:rPr>
              <a:t>   </a:t>
            </a:r>
            <a:r>
              <a:rPr b="0" lang="en-US" sz="4800" spc="-1" strike="noStrike">
                <a:solidFill>
                  <a:srgbClr val="753bcb"/>
                </a:solidFill>
                <a:latin typeface="Arial Black"/>
              </a:rPr>
              <a:t>Present Tense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Present Indefinit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Present Continuou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Present Perfect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Present Perfect Continuou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4000">
    <p:wheel spokes="8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53bcb"/>
                </a:solidFill>
                <a:latin typeface="Arial Black"/>
              </a:rPr>
              <a:t>     </a:t>
            </a:r>
            <a:r>
              <a:rPr b="0" lang="en-US" sz="4800" spc="-1" strike="noStrike">
                <a:solidFill>
                  <a:srgbClr val="753bcb"/>
                </a:solidFill>
                <a:latin typeface="Arial Black"/>
              </a:rPr>
              <a:t>Past  Tense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Past  Indefinit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Past Continuou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Past  Perfec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Past Perfect Continuou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4000">
    <p:wheel spokes="8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0" lang="en-US" sz="4400" spc="-1" strike="noStrike">
                <a:solidFill>
                  <a:srgbClr val="753bcb"/>
                </a:solidFill>
                <a:latin typeface="Arial Black"/>
              </a:rPr>
              <a:t>F</a:t>
            </a:r>
            <a:r>
              <a:rPr b="0" lang="en-US" sz="4800" spc="-1" strike="noStrike">
                <a:solidFill>
                  <a:srgbClr val="753bcb"/>
                </a:solidFill>
                <a:latin typeface="Arial Black"/>
              </a:rPr>
              <a:t>uture Tense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Future Indefinit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Future Continuou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Future Perfect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Future Perfect Continuous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4000">
    <p:wheel spokes="8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301320"/>
            <a:ext cx="853416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53bcb"/>
                </a:solidFill>
                <a:latin typeface="Arial Black"/>
              </a:rPr>
              <a:t>Present Indefinite Tense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53bcb"/>
                </a:solidFill>
                <a:uFillTx/>
                <a:latin typeface="Arial Black"/>
              </a:rPr>
              <a:t>The use</a:t>
            </a: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 : Expression of habits, routine and regular happenings at present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53bcb"/>
                </a:solidFill>
                <a:uFillTx/>
                <a:latin typeface="Arial Black"/>
              </a:rPr>
              <a:t>The Structure </a:t>
            </a: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S+V1+s/es,HVs: do, do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53bcb"/>
                </a:solidFill>
                <a:uFillTx/>
                <a:latin typeface="Arial Black"/>
              </a:rPr>
              <a:t>Affirmative</a:t>
            </a: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 :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Miss Cathy writes a letter 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Girls sing a song 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99"/>
                </a:solidFill>
                <a:uFillTx/>
                <a:latin typeface="Arial Black"/>
              </a:rPr>
              <a:t>N</a:t>
            </a: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 : Miss Susan does not read any book 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99"/>
                </a:solidFill>
                <a:uFillTx/>
                <a:latin typeface="Arial Black"/>
              </a:rPr>
              <a:t>?</a:t>
            </a: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 : Do the butterflies dance in joy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99"/>
                </a:solidFill>
                <a:uFillTx/>
                <a:latin typeface="Arial Black"/>
              </a:rPr>
              <a:t>?N</a:t>
            </a: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 : Does the teacher of English not speak English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4000">
    <p:wheel spokes="8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9144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53bcb"/>
                </a:solidFill>
                <a:latin typeface="Arial Black"/>
              </a:rPr>
              <a:t>Present Continuous Tense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53bcb"/>
                </a:solidFill>
                <a:uFillTx/>
                <a:latin typeface="Arial Black"/>
              </a:rPr>
              <a:t>The Us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: Expression of action happening at the time of speaking or writing at present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53bcb"/>
                </a:solidFill>
                <a:uFillTx/>
                <a:latin typeface="Arial Black"/>
              </a:rPr>
              <a:t>The Structur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: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S + is/am/are + V1 + ing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53bcb"/>
                </a:solidFill>
                <a:uFillTx/>
                <a:latin typeface="Arial Black"/>
              </a:rPr>
              <a:t>Affirmativ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Miss Dolphin is eating pizza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I am learning the lesson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99"/>
                </a:solidFill>
                <a:uFillTx/>
                <a:latin typeface="Arial Black"/>
              </a:rPr>
              <a:t>N</a:t>
            </a: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 : Miss Cathy is not learning French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99"/>
                </a:solidFill>
                <a:uFillTx/>
                <a:latin typeface="Arial Black"/>
              </a:rPr>
              <a:t>? </a:t>
            </a: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 : Are girls playing badminton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99"/>
                </a:solidFill>
                <a:uFillTx/>
                <a:latin typeface="Arial Black"/>
              </a:rPr>
              <a:t>?N</a:t>
            </a: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 : Am I not teaching Miss Cathy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4000">
    <p:wheel spokes="8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53bcb"/>
                </a:solidFill>
                <a:latin typeface="Arial Black"/>
              </a:rPr>
              <a:t>Present Perfect Tens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53bcb"/>
                </a:solidFill>
                <a:uFillTx/>
                <a:latin typeface="Arial Black"/>
              </a:rPr>
              <a:t>The Use</a:t>
            </a: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 : Expression of completion of action/work at the present tim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53bcb"/>
                </a:solidFill>
                <a:uFillTx/>
                <a:latin typeface="Arial Black"/>
              </a:rPr>
              <a:t>The Structure</a:t>
            </a: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 : S + has/have + V3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53bcb"/>
                </a:solidFill>
                <a:uFillTx/>
                <a:latin typeface="Arial Black"/>
              </a:rPr>
              <a:t>Affirmative</a:t>
            </a: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 :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1. Miss Vainglory has flown to great Britain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2. They have taken part in the quiz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3.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Arial Black"/>
              </a:rPr>
              <a:t>N</a:t>
            </a: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 : Miss Susan has not written the assignment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4.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Arial Black"/>
              </a:rPr>
              <a:t>?</a:t>
            </a: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 : Have they participated in the drama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5.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Arial Black"/>
              </a:rPr>
              <a:t>?N</a:t>
            </a: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 : Has Miss Vainglory not disgraced the  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           </a:t>
            </a: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English clas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4000">
    <p:wheel spokes="8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9144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53bcb"/>
                </a:solidFill>
                <a:latin typeface="Arial Black"/>
              </a:rPr>
              <a:t>Present Perfect Continuous Tens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53bcb"/>
                </a:solidFill>
                <a:uFillTx/>
                <a:latin typeface="Arial Black"/>
              </a:rPr>
              <a:t>The Use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: Expression of completion and continuity of action before and at the time of speaking/writing at present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53bcb"/>
                </a:solidFill>
                <a:uFillTx/>
                <a:latin typeface="Arial Black"/>
              </a:rPr>
              <a:t>The Structure</a:t>
            </a: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 :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        </a:t>
            </a: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S + has/have + been + V1 + ing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53bcb"/>
                </a:solidFill>
                <a:uFillTx/>
                <a:latin typeface="Arial Black"/>
              </a:rPr>
              <a:t>Affirmative</a:t>
            </a: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 :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Miss Rita has been combing her hair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Soldiers have been fighting since Monday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</a:rPr>
              <a:t>N</a:t>
            </a: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 : David has not been smelling the rose for a minute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</a:rPr>
              <a:t>?</a:t>
            </a: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 : Have they been piloting the plane since 2003?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 Black"/>
              </a:rPr>
              <a:t>? N</a:t>
            </a:r>
            <a:r>
              <a:rPr b="0" lang="en-US" sz="2000" spc="-1" strike="noStrike">
                <a:solidFill>
                  <a:srgbClr val="ff3399"/>
                </a:solidFill>
                <a:latin typeface="Arial Black"/>
              </a:rPr>
              <a:t> : Has Miss Suman not been teaching English?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4000">
    <p:wheel spokes="8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05:55:27Z</dcterms:created>
  <dc:creator>student</dc:creator>
  <dc:description/>
  <dc:language>en-US</dc:language>
  <cp:lastModifiedBy>Royal</cp:lastModifiedBy>
  <dcterms:modified xsi:type="dcterms:W3CDTF">2009-07-24T02:16:40Z</dcterms:modified>
  <cp:revision>49</cp:revision>
  <dc:subject/>
  <dc:title>GOVT.GIRLS HIGH SCHOOL PAYAL</dc:title>
</cp:coreProperties>
</file>